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41C2-0153-433C-ACB1-05A6374B4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y programmers simply enjoy the challenge; gain kudos; some ask for do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n be a startup business ‘testing the water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g of restricted features – AVG; Synch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oodwill – eg MS Image Composite Editor (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8B12-4234-4BD4-BC4D-754F29567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 have bought some – eg TightProjector, MailWas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ften it’s the same program you download.  They simply email you a code to input after you’ve p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icrosoft Office Trial is really share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A7BA-1F39-4B1F-8DA0-9E6DFA22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o your researc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izmos site is a great start for reviews, comments, comparisons and download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the BFS Google Group members.  You are bound to get opi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void unnecessary additions – eg the ASK toolbar and search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nly Portable Apps will install on the BFS PC’s and then only on the Data dr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liable sites are listed on the next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5BC5-37FA-4FFB-88A2-BD9034EA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izmo’s site is my personal favou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ave a text file open to paste these to the chat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022-4B4C-45BF-87D0-EE58E187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703C-AF0A-4264-B7E9-C6AFAF2DB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88C-260D-4E65-BAE5-07A0BA39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36B-5BED-410B-B08A-60D8079D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6ED-1B76-473F-A161-FA44FD70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505-B018-4E20-A350-095A511D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CA5D-971F-4C54-A9E3-C5CF6FBA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020-4797-4627-9B37-CB1F281C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A400-63E8-4FDB-BCD9-994B5D60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DE53-8657-4018-9E90-E5E819E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9C6D-5C86-47BD-ABF7-E4ECD901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FB1E-24E9-45AD-8B4A-8ABB22E7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88B-BBA7-4C6B-8033-6706211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370-CB33-449F-B88D-C08488E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D5A0-7F0D-4911-9EBB-20D8E50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40E-E672-463C-B767-41C37224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D8F-9913-42D6-89C9-76351821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7CB2-E448-4913-B944-930B0C73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4ED8-78F5-4F3C-BBE4-BC417D19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CF1E-691F-4C9B-BA33-FB015AE9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D9A5-536A-4361-B2A3-29E24FD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2E5B-A186-46C3-8C6A-4E5B6FBF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E731-639C-445F-9C28-1BF08948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8278-D20C-4A71-8C86-C92922F4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9FF-98FE-478B-8E8A-0F408BCD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9D9B-F419-4934-BD7D-AC4948F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2833-151B-45C6-813D-5BC58B69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B754-EC01-4CFB-84C1-01CC7F5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2847-999C-47D7-AC63-001750CE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5187-C3AF-4D43-86DB-4C75C57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29E7-5391-4B6E-850C-F3C58845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BD7D-F038-4FFA-BEB2-591B3C08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2DC2-7B00-4D14-B0A4-8FDFCD17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2F65-86E6-456E-ADE8-520F6ADC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3645-C271-42C7-87A9-760B2CEA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B38-077F-4D25-9C54-1E3B8132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2E55-AD40-496A-96A1-409568F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944B-8934-4EBB-B3B4-336FF3EF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D259-5F89-4E65-B5EA-F13C72E0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FE24-4319-4795-BB8B-46879B93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AC88-44A5-40BF-85A4-AE615A5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316F-AA91-4156-B81A-EBEE6B7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DD5B-3C63-463A-8859-27EDE7D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08F9-5D25-4B82-86B0-D29DACAB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71C9-E195-4DB9-9DBF-9C4DE7AB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2140-CE74-4943-8CC2-F561AC9E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FAD-8BEE-4EEE-9B9B-91C622B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BD6E8-A438-4028-B305-A5A497A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8A77-E4D1-473E-B4A8-01EA4CD8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8B2E-B392-49A1-B370-3DA373C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E85E7-2278-42F6-BF66-0A827C1D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E34F-6D06-4FC2-AEEE-8D5619A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56C70-C4CE-40A0-AE68-03974AF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A628-2408-44FC-893F-83A3B63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F53F2-9DAC-460A-99BA-0E5C097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41D7-92A9-4829-B3E1-534FC8A4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1D9B-2D1D-49E9-BAE3-5C3B8B7B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BB3-D5CC-4EF1-AEFA-D56EDB8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94C2D-51EA-4D98-97F7-A67450F1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83AB3-5560-47C8-B5AD-A4EB0F53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352E9-38B2-431A-BFEF-42BDAADA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E4C8-5BAA-4147-A378-4707765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5A754-F727-4416-8F01-8A2E9CFC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1169-62EA-41BA-A610-EC63F3D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AD14D-C043-4A4B-BC19-A76CC64C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F452-2E05-4537-95B9-1B489CE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7547-4813-45B7-9DBB-6292BA18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1BB8-B711-4E5C-8CC6-F2C5A51B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80C-B1CA-43CD-B537-C69AB0B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1728-2402-4DBF-A9F6-44E4B310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5295B-35BC-47E5-963C-3A16DA29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411D1-DD6B-44BE-B1AA-592869D9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83255-349F-40C4-B924-12012C18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C4B04-7BB8-42F4-B236-656AB9C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DC05-F762-449F-A855-E3895397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D089-BEB9-4F06-8BB2-C12C8C7E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0A68-7D8C-4A5A-ABB8-136E0C04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079A-4755-49ED-ABB4-263B12DA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E748-7F29-4DD0-8A1C-874CA3B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7E7-CB5B-41CF-9B00-256B554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65F1-B25D-4A6B-958B-3EF0D29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AABDF-E287-49A4-940C-13B501D2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8D0E-6AA4-4881-A90B-DDF314D5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EC37-78B0-4970-9DC6-DD806C3F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AD2D-2A59-4B63-9D5C-E2A48ECF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EBF-0A25-470D-AC98-949B9D2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1B36-2A89-4F98-825E-23A9545C641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1E92-2778-4E72-B96C-F83EDBE099E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B5B-42FC-4FB3-84F7-1D02C2B3CC4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29A-659C-444C-87D6-F79E62DF5E4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EC81-B173-40D6-93AD-024ACB056A6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192-048A-4DB3-9A63-FFF2CB91DE3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B74E-6A61-4809-99DA-85DDFC37E71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Tech Savvy Seniors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Woodrising Neighbourhood Centr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1258920" y="2637000"/>
            <a:ext cx="7499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Free Softwa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Online Trai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reewa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ften as good or better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han commercial softwa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y is it Fre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Uni and College pro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People who love program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Developing busin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Superseded softwa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Restricted features, hope you’ll bu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Community goodwi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4" descr="C:\Users\Keith\AppData\Local\Microsoft\Windows\Temporary Internet Files\Content.IE5\I0MJUD2F\MC900104752[1].wmf"/>
          <p:cNvPicPr/>
          <p:nvPr/>
        </p:nvPicPr>
        <p:blipFill>
          <a:blip r:embed="rId1"/>
          <a:stretch/>
        </p:blipFill>
        <p:spPr>
          <a:xfrm>
            <a:off x="5940360" y="0"/>
            <a:ext cx="3087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Sharewa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ry before you bu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Restrictions might b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Crippled fea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Time limi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Usage Limi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sually lower cost than commerci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ompanies who can’t afford distrib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C:\Users\Keith\AppData\Local\Microsoft\Windows\Temporary Internet Files\Content.IE5\YNQZBS96\MC900036639[1].wmf"/>
          <p:cNvPicPr/>
          <p:nvPr/>
        </p:nvPicPr>
        <p:blipFill>
          <a:blip r:embed="rId1"/>
          <a:stretch/>
        </p:blipFill>
        <p:spPr>
          <a:xfrm>
            <a:off x="7020000" y="549360"/>
            <a:ext cx="18730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vea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oogle for reviews </a:t>
            </a:r>
            <a:r>
              <a:rPr b="1" lang="en-AU" sz="3200" spc="-1" strike="noStrike">
                <a:solidFill>
                  <a:srgbClr val="000000"/>
                </a:solidFill>
                <a:latin typeface="Gill Sans MT"/>
              </a:rPr>
              <a:t>&amp;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heck the alternati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nly download from reliable s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atch the install options close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void extra toolbars or search s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ive it a fair test ru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Read the instructions!!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4" descr="C:\Users\Keith\AppData\Local\Microsoft\Windows\Temporary Internet Files\Content.IE5\I0MJUD2F\MC900104728[1].wmf"/>
          <p:cNvPicPr/>
          <p:nvPr/>
        </p:nvPicPr>
        <p:blipFill>
          <a:blip r:embed="rId1"/>
          <a:stretch/>
        </p:blipFill>
        <p:spPr>
          <a:xfrm>
            <a:off x="5724360" y="476280"/>
            <a:ext cx="3232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liable si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71280" y="1628280"/>
            <a:ext cx="796284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izmo’s site:</a:t>
            </a: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 www.techsupportalert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lso chec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www.techsupportalert.com/best_shareware_sites.ht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www.makeuseof.com/pages/the-best-o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ff"/>
                </a:solidFill>
                <a:latin typeface="Gill Sans MT"/>
              </a:rPr>
              <a:t>www.portableapps.c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6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Some Freeware I Use / Recommen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VG, MSE, Avira, MalwareBy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Picasa, IrfanView, VLC Media Play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DBurnerXP, ccleaner, Notepad++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Everything,  Auslogics Defra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Keepass, Calibre, Q-Di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kype, Google Drive, Skydrive, Dropbo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yncback, Freemake Video Downlo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egacy, MiniTo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5636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ny Questions</a:t>
            </a:r>
            <a:br>
              <a:rPr sz="6000"/>
            </a:b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bout Freeware </a:t>
            </a:r>
            <a:br>
              <a:rPr sz="6000"/>
            </a:br>
            <a:r>
              <a:rPr b="0" lang="en-AU" sz="6000" spc="-1" strike="noStrike">
                <a:solidFill>
                  <a:srgbClr val="572314"/>
                </a:solidFill>
                <a:latin typeface="Gill Sans MT"/>
              </a:rPr>
              <a:t>and Shareware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ree Online Training Metho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elf Paced slides and/or video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eg BFS, GCFLearnFre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Downloadable boo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How To’ webs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YouTube vide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Blackboard Collaborate webin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pen Universiti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4" descr="C:\Users\Keith\AppData\Local\Microsoft\Windows\Temporary Internet Files\Content.IE5\5HWT3ZDL\MC900360504[1].wmf"/>
          <p:cNvPicPr/>
          <p:nvPr/>
        </p:nvPicPr>
        <p:blipFill>
          <a:blip r:embed="rId1"/>
          <a:stretch/>
        </p:blipFill>
        <p:spPr>
          <a:xfrm>
            <a:off x="6134040" y="3068640"/>
            <a:ext cx="269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ree Online Training - Cavea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earning takes effort by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ck of instant feedback *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obody to ask immediate questions of *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nternet usage (vide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eed to be self motiva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* webinars usually allow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4" descr="C:\Users\Keith\AppData\Local\Microsoft\Windows\Temporary Internet Files\Content.IE5\I0MJUD2F\MC900104728[1].wmf"/>
          <p:cNvPicPr/>
          <p:nvPr/>
        </p:nvPicPr>
        <p:blipFill>
          <a:blip r:embed="rId1"/>
          <a:stretch/>
        </p:blipFill>
        <p:spPr>
          <a:xfrm>
            <a:off x="5707080" y="5877000"/>
            <a:ext cx="3233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5:59:11Z</dcterms:created>
  <dc:creator>Keith</dc:creator>
  <dc:description/>
  <dc:language>en-US</dc:language>
  <cp:lastModifiedBy>Keith</cp:lastModifiedBy>
  <dcterms:modified xsi:type="dcterms:W3CDTF">2014-01-30T08:37:44Z</dcterms:modified>
  <cp:revision>133</cp:revision>
  <dc:subject/>
  <dc:title>If I Had To Give  Ten Tips</dc:title>
</cp:coreProperties>
</file>